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6388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263880" indent="-263880">
              <a:spcBef>
                <a:spcPts val="4201"/>
              </a:spcBef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263880" indent="-263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263880" indent="-263880">
              <a:spcBef>
                <a:spcPts val="4201"/>
              </a:spcBef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263880" indent="-26388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263880" indent="-26388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263880" indent="-26388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6311520"/>
            <a:ext cx="10464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79246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marL="5112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51120" indent="-51120">
              <a:spcBef>
                <a:spcPts val="4201"/>
              </a:spcBef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200340373.jpg"/>
          <p:cNvPicPr/>
          <p:nvPr/>
        </p:nvPicPr>
        <p:blipFill>
          <a:blip r:embed="rId1"/>
          <a:srcRect l="5560" t="0" r="5494" b="0"/>
          <a:stretch/>
        </p:blipFill>
        <p:spPr>
          <a:xfrm>
            <a:off x="3454560" y="1003320"/>
            <a:ext cx="6095880" cy="4572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6311520"/>
            <a:ext cx="10464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English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Oct. 7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79246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Remember to date your note/responses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The Crucible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Page 1040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Questions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How does the dialogue ensure that Tituba is quickly on the defensive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How is the assumption that Tituba is guilty indicative of the assumptions made during the real witch trials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What does Putnam's desire to name certain people show about his character?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Page 1045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Do questions 1-7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Homework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15560" y="838080"/>
            <a:ext cx="1046484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Miller called Act I an overture-an introduction. In literary terms, it would be called the exposition.Write two-three paragraphs analyzing how Miller has set the stage for the rest of the play. Comment on setting, characters, plot, dialogue, etc. describe what, for you, is the narrative hook.  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3-10-07T15:57:03Z</dcterms:modified>
  <cp:revision>3</cp:revision>
  <dc:subject/>
  <dc:title>English Oct. 7</dc:title>
</cp:coreProperties>
</file>